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28BE8-0F28-41B6-8BF1-EBDD41FCF7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6071B-F3DF-495C-A989-9C2067DB6D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4F7C0-4CC6-4439-9E58-59138F21C8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99128-80AB-4000-B266-9A2B8F9A0F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EA9DF-90BA-4832-945A-A3FD8B629D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B5D45-18BB-43EA-B0B7-3B61048991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3E06B-57DA-47C2-AF06-F2174CFDE2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1627A-980F-4C5B-93E4-4FD568558B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E1F72-A89A-48DC-BAE9-07E42E309B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3C216-B35D-4EA0-9EE2-3B4B7949C0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871AE-F8CD-4048-AC55-B4D8D1B23F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C9E4D-D6EA-42EE-BA33-EC84A7DAFB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93A94-951B-4405-BD3D-03F8D98EE7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D8452-28B9-46F9-8708-E6C2233DB0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04B99-B2D2-4B40-BED9-6EF69D8F7B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07FD6-D0C5-49A0-9E64-C679D8553B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D8BAD-A7C9-4A3E-869A-879B890E61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6F454-C55C-4BD6-8300-E63DF08873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06B66-8884-4E76-83AC-F5355020C7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DF240-A3BB-40B4-8192-92E728637F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0FA11-898D-42C8-85CF-34B6D855AA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696B8-E9F3-432A-8A5C-695668A3CF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8A835-BEDA-40B1-A02F-A2E9DCF8D3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D9A25-A64F-40D3-AB96-AED336DBDD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34E0F-39A2-46B9-9EC7-24301FEC6A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119C1-73BF-4575-B0C7-B2B05724FB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8E94A-C2EE-4AFF-9693-76CE381098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9BEF4-B3B1-42E6-9432-CE222C8C15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4085E-FD86-48F7-AAD5-A1C160C018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20934-39B0-4871-B297-2035E0C1F2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A06BA-EEBE-4FB1-8DAE-E85DB9CA79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19271-3F7F-4D7E-B0F8-7486E13EF3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7077C-6095-4231-BECC-A9250C2697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6F37D-CF9D-403B-ABDA-2E85AD52F7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7FFEF-1395-4ACA-9F86-9BA13F0F60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767A2-30B2-4996-8200-C84E2A9AA1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02E16-84CA-4BA9-8C3B-8F315255C9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3B9D4-E8AE-4883-9A2C-B2106EB6F5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04954-4879-4CC6-9B49-34705269AA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38DF3-667D-4CE0-96C5-F6AEA3D6BA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AC048-CF62-4911-816F-EEA825C478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202EF-578E-4F2D-8A35-D94111F4F0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084F9-5859-4D35-BDA4-BE648EE916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0168B-2D05-40F8-A560-31ECE84344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A6C93-E149-449A-98BB-DBF7FB4A69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5A01B-C9A2-48DB-BC90-B1E8EAA9F7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ABABC-7C11-4F8A-AAEA-2CACF8D012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67A5C-1856-4AFC-9A6C-84BD3CDCC6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2B987-22C4-46B8-9A67-FF30E99D8C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F7748-0A57-4C98-8E0D-A43D4839F2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849F0-9BAB-478F-8A77-282164B771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A5D0B-C10D-4F35-8AC3-052BB2EB3D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A28D-B8E0-4400-AB6D-4C3755786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2232-7240-4C8E-AAAF-20FAC257A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36212E-7889-4F97-92EE-99206595E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D4D750-0619-46FB-957F-4907105B7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3AEA12-EE91-4353-93BF-98B01AA3C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BA6018-74B8-40F9-95D3-92FE1B9C7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815DFB-165A-47A7-BB1D-95220B594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6E744D-B685-48CA-B244-99BECF1A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CDF60F-1D4D-4428-9C7A-C2E561BAB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58CE15-5E3D-4019-A1CE-1F72C4251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CF726A-AF14-4DDF-B327-73430A590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F84E5A-4B18-4C3C-A43D-A0F7A2D0C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A9A8-6594-46DB-9CF0-BC1BCE8D0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2D2113-363F-48B5-A9A0-2882BBB2B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F2FD7C-7B63-463C-B024-5F261F643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0F22E2-C5FB-4C6D-8641-F3A0C5C0B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BE2EC1-3D05-4F0C-A1BF-2E03FACCC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13F61B-12CF-4B98-958D-AED585675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AF2D56-CB70-4C85-904A-B0E4EF7CB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BA447B-50BA-4B32-8F36-01B5691EE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2C9D9F-7ADC-4300-9C2A-2A65A369A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F1783B-471F-4200-882B-994F10120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E1B44A-553F-41A4-AF83-6CA228FEF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A42E-9402-4458-9FB1-73D8AEDEA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B5B913-FC2F-4DD6-822B-2B7A669BF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65E910-7694-4024-B4E9-EF0F298AB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D6FCB6-1E41-4B4A-82B5-9555CAEC9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657CCE-C47D-4A52-A6A7-4A78B650A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8D1417-9286-479A-9E1E-0BC334802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0E7382-4753-44A9-864B-45F708BBB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704959-598A-4668-8966-6A5F8E3C2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10749D-CBCD-49D9-9C6C-C05BF99C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10381A-1D42-43D0-8DF4-4BC111AA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4326AD-5826-408E-ACF5-3C364EA3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53602-F22F-45DF-A33F-7C9CA05A5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CCD86F-C4A8-4D70-A795-1DDCB7030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A079BD-5EBE-45EC-AD8C-02342A7B1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00F374-89AF-4092-B4C6-C6FA2C5A1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FBB12B-8622-4BAD-8B36-B7C9770C9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68F304-1A08-439E-944B-2FB77960F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A50EA4-069A-4E5D-8575-A5FEBE0AD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162D4B-0584-40B2-9322-F2FA531C8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FE4B4C-03BF-4CD5-AA92-20F14C399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2CBF12-C98B-4CDD-9746-432E2358F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817E69-0B7B-410E-ABAE-EC9030479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C76BF-2AA3-42B5-AB87-8ACC5CCDF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AE141F-E5A7-419F-9299-FAF01AE7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5A438E-38C0-4ADF-A65B-7BC7B567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BE3D29-D386-466E-8A05-A10F15C0B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22D955-BAE2-4D8B-88A3-8BF61FD1F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FAA3E9-6D15-4757-A6C8-5E8127D68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EC9FD-2B3B-4107-9296-8BC991FE7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AA3FF-0E90-4B4A-B407-95F4F1D59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5372E-D0B0-4913-9D0D-EBAF2C705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660FC-A296-40A1-AE34-91A1B2AD4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19E2D-3657-4730-8F3A-6D1272328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E617-636A-4B43-BFAD-9E270F75C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030EA-1960-4677-BC02-AB458B9D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EA5B3-BA0A-450B-8175-4B1E8F73E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B9C06-61B6-4CF5-B16D-750630C3C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68AFA-442F-44DD-A850-97154C22D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FE84E-8A66-4B4D-9519-FBA44F8BE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DF75E-CF4A-487D-8AD0-69E663316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6804A-A54E-4CC0-9C55-6DAB10ABA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BA483-EEC5-41FD-AEFF-A089DCB2A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CDC2C-7437-43B2-A05B-5530D53FD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FA62A-6E74-420A-8712-415E56979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D19D-F3AD-43C9-AE86-0EDA21AF4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497D2-6FD5-49E3-84D4-964AE15A4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BF5CD-6AA1-4385-AE63-EDC11E85D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76E68-C4F6-4E1F-874D-2CB730C0C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FB36E-F282-47AC-9477-0526278E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CC928-F843-4450-8365-C3F0DA525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6F535-0D40-4F95-A444-059A1ED4A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3607A-4298-4B6A-89BE-73197892F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FB1E8-6127-43AE-B136-D93B9AEF8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D3772-764B-4E1E-B010-3EFEABAFA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43518-5ADF-4601-8193-D8233B1F6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7EB0-3C65-4FEF-BE52-54BE9CBAB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96CC4-1E3E-4F40-82D2-5B27F8B29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E559D-C7DA-453A-90DC-4A1FCE043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25CAD-5D4F-47CF-B3F3-6982B81B3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F292F-2CB4-495D-AACE-A72614169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75D2B-7506-44C6-B2C5-52AC071A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86C48-A63E-4244-AABA-951E9B448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E3066-4133-4500-8271-D3993C9F5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7C87C-3A6B-4195-B696-A4B64C6BD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27DE7-4CD4-4C22-8FBB-45F61BEF6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60A84-A720-4420-9AFC-84E8CB8E0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EED0-6A6D-400D-B4C8-415C3CCE5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C01417-AC5E-4039-B7D3-AC53FD8DD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C59E82-1B19-40C1-A62A-0B33D4BF2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0C2268-71E8-4544-9C2B-9D74571E2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65FA3-EC4F-486A-9223-DD881A24D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5E5447-B430-4599-9B9A-C92716ADE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7D0330-137C-4082-9C92-0D9927EC7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53F46F-8A98-4CBA-88BD-53F417833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84145E-63F0-483C-AAA5-FB6599530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A05D3C-01AB-4303-80C5-7D13A671E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49EB5-A0BF-4A72-8CD0-856AE839C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6C07-F996-400C-AE4E-DBAA818ED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523ADA-8951-43A2-B939-B4C37EB76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3CE0AF-C893-428E-A8A6-8CBB8EC92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4F7DFB-5A2B-47C2-9821-143189932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671811-506C-4B7C-8BCA-638D39EB6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EDD279-5631-4B85-B53C-8357E93C4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9E09DB-AB5D-4118-AD1A-D5B612F5B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378F9C-ABD5-4401-95B0-51A1018F3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7BD538-200B-4F94-BCDB-9B306214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91FC6A-0312-43E8-A8EC-74A107B23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419EAE-E21A-4FFB-8944-623D366C7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ECF2-9F09-4CB1-9136-B232030C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7C7770-DF07-452D-9559-1EABD0D4C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43A247-B0B5-4C97-B010-A4BD09151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DA98E0-2F8A-4DB3-BD0C-424CFC790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16D80E-5038-435E-8ADF-69B7E5B8D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BE6C30-0153-4A14-94D2-2600D0F9E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0BA45E-B482-4759-97AB-628A5BC1B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D7DA8F-FE2F-45CD-ADF4-6CEA93413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C27CB3-6BAD-4916-B658-1ABEDE646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864A22-4A9C-4CAB-B194-25A9D8E0A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ACF8D6-327C-4DE9-9F25-737C96426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B4EE-F6CC-4B9E-8B22-DF47634A0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A8DBCD-6450-49D5-8146-117F22E7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673694-7CA4-4FA8-B518-7908E5F19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5C21A3-E0A7-4F9F-BC41-964C53D2C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843742-6E85-4491-A062-38CEBF959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EE310C-0688-446B-A2E4-7EA7DD6B4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89D79B-B582-454F-882C-1A9339A9F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757E01-CE00-4321-B625-F61E503FA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E96F38-981F-4A5A-8205-085A7D929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F4144A-07DC-4FE8-B876-1328F46B0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00C34A-BBF8-45B8-BCD2-AA9C3A88D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7797-3C22-4083-BFC7-F2F4909C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2454DF-CA6B-48E4-9DE8-7EE1160A6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6DE22D-BEA7-4701-A219-51ADEDBFB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7663C3-A36B-4EFF-967B-B21AA7CF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8516B9-05C4-4A3C-97AD-46C0E635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1EA12C-5A9F-4420-AFF0-7B84B386D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07D872-ACD4-40BC-B119-A4C3F02DC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EB4CC8-CB23-4D83-A464-234B0D184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AEE1FD-F529-487A-8A26-5E8B70E80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01900C-BD92-44C9-B522-81B1E90C2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9ED570-A5DA-4880-BCDB-86DF0C23C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0F864-AAF3-4DDD-B09C-57D15A8FB7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2F866-12C3-41CE-997E-0B7B1DFDCD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B766F-57B8-4942-8DCB-41B7C4128A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77D9B-AC35-4DE1-BEE3-E015E1D0E9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DF308-9500-43BA-B0F6-CF4958D935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380DB-9FB5-4D36-AED3-2365DB07C5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09762-46BF-417A-87D5-7A663F8B47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4F7B2-6C3A-491E-A815-C1BC4A2EFB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BBB01-AEB5-403B-8A6F-68E955A65D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C082B-0B52-4D3E-83A0-ADD6FBF9D4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B833D-5253-4BD9-AAFD-05A183B0A7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7ACA4-060B-4450-BA42-60D9B6B4DC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0.xml"/><Relationship Id="rId9" Type="http://schemas.openxmlformats.org/officeDocument/2006/relationships/slide" Target="slide12.xml"/><Relationship Id="rId10" Type="http://schemas.openxmlformats.org/officeDocument/2006/relationships/slide" Target="slide12.xml"/><Relationship Id="rId11" Type="http://schemas.openxmlformats.org/officeDocument/2006/relationships/slide" Target="slide14.xml"/><Relationship Id="rId12" Type="http://schemas.openxmlformats.org/officeDocument/2006/relationships/slide" Target="slide14.xml"/><Relationship Id="rId13" Type="http://schemas.openxmlformats.org/officeDocument/2006/relationships/slide" Target="slide16.xml"/><Relationship Id="rId14" Type="http://schemas.openxmlformats.org/officeDocument/2006/relationships/slide" Target="slide16.xml"/><Relationship Id="rId15" Type="http://schemas.openxmlformats.org/officeDocument/2006/relationships/slide" Target="slide18.xml"/><Relationship Id="rId16" Type="http://schemas.openxmlformats.org/officeDocument/2006/relationships/slide" Target="slide18.xml"/><Relationship Id="rId17" Type="http://schemas.openxmlformats.org/officeDocument/2006/relationships/slide" Target="slide20.xml"/><Relationship Id="rId18" Type="http://schemas.openxmlformats.org/officeDocument/2006/relationships/slide" Target="slide20.xml"/><Relationship Id="rId19" Type="http://schemas.openxmlformats.org/officeDocument/2006/relationships/slide" Target="slide22.xml"/><Relationship Id="rId20" Type="http://schemas.openxmlformats.org/officeDocument/2006/relationships/slide" Target="slide22.xml"/><Relationship Id="rId21" Type="http://schemas.openxmlformats.org/officeDocument/2006/relationships/slide" Target="slide24.xml"/><Relationship Id="rId22" Type="http://schemas.openxmlformats.org/officeDocument/2006/relationships/slide" Target="slide24.xml"/><Relationship Id="rId23" Type="http://schemas.openxmlformats.org/officeDocument/2006/relationships/slide" Target="slide26.xml"/><Relationship Id="rId24" Type="http://schemas.openxmlformats.org/officeDocument/2006/relationships/slide" Target="slide26.xml"/><Relationship Id="rId25" Type="http://schemas.openxmlformats.org/officeDocument/2006/relationships/slide" Target="slide28.xml"/><Relationship Id="rId26" Type="http://schemas.openxmlformats.org/officeDocument/2006/relationships/slide" Target="slide28.xml"/><Relationship Id="rId27" Type="http://schemas.openxmlformats.org/officeDocument/2006/relationships/slide" Target="slide30.xml"/><Relationship Id="rId28" Type="http://schemas.openxmlformats.org/officeDocument/2006/relationships/slide" Target="slide30.xml"/><Relationship Id="rId29" Type="http://schemas.openxmlformats.org/officeDocument/2006/relationships/slide" Target="slide32.xml"/><Relationship Id="rId30" Type="http://schemas.openxmlformats.org/officeDocument/2006/relationships/slide" Target="slide32.xml"/><Relationship Id="rId31" Type="http://schemas.openxmlformats.org/officeDocument/2006/relationships/slide" Target="slide34.xml"/><Relationship Id="rId32" Type="http://schemas.openxmlformats.org/officeDocument/2006/relationships/slideLayout" Target="../slideLayouts/slideLayout85.xml"/><Relationship Id="rId3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AutoShape 89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AutoShape 90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4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AutoShape 91">
            <a:hlinkClick r:id="rId5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6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AutoShape 92">
            <a:hlinkClick r:id="rId7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8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AutoShape 101">
            <a:hlinkClick r:id="rId9" action="ppaction://hlinksldjump"/>
          </p:cNvPr>
          <p:cNvSpPr/>
          <p:nvPr/>
        </p:nvSpPr>
        <p:spPr>
          <a:xfrm>
            <a:off x="1828800" y="1143000"/>
            <a:ext cx="1828800" cy="1219320"/>
          </a:xfrm>
          <a:custGeom>
            <a:avLst/>
            <a:gdLst>
              <a:gd name="textAreaLeft" fmla="*/ 78840 w 1828800"/>
              <a:gd name="textAreaRight" fmla="*/ 1749960 w 182880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32394" h="21600">
                <a:moveTo>
                  <a:pt x="0" y="0"/>
                </a:moveTo>
                <a:lnTo>
                  <a:pt x="32394" y="0"/>
                </a:lnTo>
                <a:lnTo>
                  <a:pt x="32394" y="21600"/>
                </a:lnTo>
                <a:lnTo>
                  <a:pt x="0" y="21600"/>
                </a:lnTo>
                <a:close/>
              </a:path>
              <a:path fill="lightenLess" w="32394" h="21600">
                <a:moveTo>
                  <a:pt x="0" y="0"/>
                </a:moveTo>
                <a:lnTo>
                  <a:pt x="32394" y="0"/>
                </a:lnTo>
                <a:lnTo>
                  <a:pt x="30994" y="1400"/>
                </a:lnTo>
                <a:lnTo>
                  <a:pt x="1400" y="1400"/>
                </a:lnTo>
                <a:close/>
              </a:path>
              <a:path fill="darken" w="32394" h="21600">
                <a:moveTo>
                  <a:pt x="32394" y="0"/>
                </a:moveTo>
                <a:lnTo>
                  <a:pt x="32394" y="21600"/>
                </a:lnTo>
                <a:lnTo>
                  <a:pt x="30994" y="20200"/>
                </a:lnTo>
                <a:lnTo>
                  <a:pt x="30994" y="1400"/>
                </a:lnTo>
                <a:close/>
              </a:path>
              <a:path fill="darkenLess" w="32394" h="21600">
                <a:moveTo>
                  <a:pt x="32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4" y="20200"/>
                </a:lnTo>
                <a:close/>
              </a:path>
              <a:path fill="lighten" w="32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0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AutoShape 102">
            <a:hlinkClick r:id="rId11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AutoShape 103">
            <a:hlinkClick r:id="rId13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4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AutoShape 104">
            <a:hlinkClick r:id="rId15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6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AutoShape 105">
            <a:hlinkClick r:id="rId17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8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AutoShape 106">
            <a:hlinkClick r:id="rId19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0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AutoShape 107">
            <a:hlinkClick r:id="rId21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AutoShape 108">
            <a:hlinkClick r:id="rId23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4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AutoShape 109">
            <a:hlinkClick r:id="rId25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6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AutoShape 110">
            <a:hlinkClick r:id="rId27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8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AutoShape 111">
            <a:hlinkClick r:id="rId29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30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AutoShape 112"/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31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AutoShape 113"/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AutoShape 114"/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AutoShape 115"/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AutoShape 116"/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AutoShape 117"/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AutoShape 118"/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AutoShape 119"/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AutoShape 120"/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AutoShape 40"/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58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harac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Rectangle 97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98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99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100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ac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rry’s boyfri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AutoShape 5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ac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o is B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son why Ponyboy likes to go to the movies al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he can get into them bet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son Johnny is so qui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 What is his parents are mean to him OR he got beat up by the So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is it unsafe for Greasers to walk alone at n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 What is they might get jump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ocs were going to do this to Ponybo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 What is give him a hairc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3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ac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 parents didn’t care about h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son Ponyboy had to dissect a worm with his switchbl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 What is the razor wouldn’t c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“Nightly Double” is this kind of establishm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a drive-in theat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on who stood up to D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o is John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son Ponyboy was embarras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Dally’s foul language towards the gi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pic of conversation while Cherry &amp; Ponyboy were getting conc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Johnny getting beat 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AutoShape 5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6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ac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o is John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ment Ponyboy made when Cherry said the Socs had troubles to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“if I had worries like that I’d consider myself lucky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rry’s action that made Ponyboy run a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slapped Ponybo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rry and Ponyboy realize they both watch the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are suns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ce Ponyboy walked to cool o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the pa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boys Cherry &amp; Marcia decided to go home w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o is Bob and Ran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4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ac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 a black-handed switch bl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ngs gotta get better, I figured. They couldn’t get worse. I was wrong.” This is an example of wha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foreshadow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object Dally gave to Ponyboy and John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money, gun, and/or co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ce Dally told Ponyboy and Johnny to h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an abandoned chu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gic event that happened to Ponyboy in the pa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almost drowned by a So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son Johnny turned white when the Socs came to the pa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he was beat up befo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ings – he knew it was B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ac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o is Two-B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wn Dally told Johnny &amp; Ponyboy to go to (town the church was located b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Windrixvil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ac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ie-star hands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ac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 Who is Soda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ac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eached his h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ac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 Who is Ponybo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19:33:51Z</dcterms:created>
  <dc:creator>Grant County High School</dc:creator>
  <dc:description/>
  <dc:language>en-US</dc:language>
  <cp:lastModifiedBy>ACSD</cp:lastModifiedBy>
  <dcterms:modified xsi:type="dcterms:W3CDTF">2011-02-24T16:13:48Z</dcterms:modified>
  <cp:revision>54</cp:revision>
  <dc:subject/>
  <dc:title>No Slide Title</dc:title>
</cp:coreProperties>
</file>